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3.jpeg" ContentType="image/jpeg"/>
  <Override PartName="/ppt/media/image49.wmf" ContentType="image/x-wmf"/>
  <Override PartName="/ppt/media/image46.wmf" ContentType="image/x-wmf"/>
  <Override PartName="/ppt/media/image44.jpeg" ContentType="image/jpeg"/>
  <Override PartName="/ppt/media/image43.jpeg" ContentType="image/jpeg"/>
  <Override PartName="/ppt/media/image54.png" ContentType="image/png"/>
  <Override PartName="/ppt/media/image11.wmf" ContentType="image/x-wmf"/>
  <Override PartName="/ppt/media/image41.jpeg" ContentType="image/jpeg"/>
  <Override PartName="/ppt/media/image23.wmf" ContentType="image/x-wmf"/>
  <Override PartName="/ppt/media/image37.wmf" ContentType="image/x-wmf"/>
  <Override PartName="/ppt/media/image29.jpeg" ContentType="image/jpeg"/>
  <Override PartName="/ppt/media/image12.jpeg" ContentType="image/jpeg"/>
  <Override PartName="/ppt/media/image36.wmf" ContentType="image/x-wmf"/>
  <Override PartName="/ppt/media/image68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20.jpeg" ContentType="image/jpeg"/>
  <Override PartName="/ppt/media/image21.jpeg" ContentType="image/jpeg"/>
  <Override PartName="/ppt/media/image69.wmf" ContentType="image/x-wmf"/>
  <Override PartName="/ppt/media/image32.wmf" ContentType="image/x-wmf"/>
  <Override PartName="/ppt/media/image22.jpeg" ContentType="image/jpeg"/>
  <Override PartName="/ppt/media/image79.wmf" ContentType="image/x-wmf"/>
  <Override PartName="/ppt/media/image24.wmf" ContentType="image/x-wmf"/>
  <Override PartName="/ppt/media/image25.wmf" ContentType="image/x-wmf"/>
  <Override PartName="/ppt/media/image73.jpeg" ContentType="image/jpeg"/>
  <Override PartName="/ppt/media/image60.jpeg" ContentType="image/jpeg"/>
  <Override PartName="/ppt/media/image70.wmf" ContentType="image/x-wmf"/>
  <Override PartName="/ppt/media/image30.png" ContentType="image/png"/>
  <Override PartName="/ppt/media/image18.jpeg" ContentType="image/jpeg"/>
  <Override PartName="/ppt/media/image62.jpeg" ContentType="image/jpeg"/>
  <Override PartName="/ppt/media/image74.jpeg" ContentType="image/jpeg"/>
  <Override PartName="/ppt/media/image51.jpeg" ContentType="image/jpeg"/>
  <Override PartName="/ppt/media/image78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66.wmf" ContentType="image/x-wmf"/>
  <Override PartName="/ppt/media/image63.jpeg" ContentType="image/jpeg"/>
  <Override PartName="/ppt/media/image6.jpeg" ContentType="image/jpeg"/>
  <Override PartName="/ppt/media/image76.wmf" ContentType="image/x-wmf"/>
  <Override PartName="/ppt/media/image64.jpeg" ContentType="image/jpeg"/>
  <Override PartName="/ppt/media/image7.jpeg" ContentType="image/jpeg"/>
  <Override PartName="/ppt/media/image75.jpeg" ContentType="image/jpeg"/>
  <Override PartName="/ppt/media/image26.wmf" ContentType="image/x-wmf"/>
  <Override PartName="/ppt/media/image67.jpeg" ContentType="image/jpeg"/>
  <Override PartName="/ppt/media/image65.jpeg" ContentType="image/jpeg"/>
  <Override PartName="/ppt/media/image71.wmf" ContentType="image/x-wmf"/>
  <Override PartName="/ppt/media/image77.wmf" ContentType="image/x-wmf"/>
  <Override PartName="/ppt/media/image16.jpeg" ContentType="image/jpeg"/>
  <Override PartName="/ppt/media/image5.wmf" ContentType="image/x-wmf"/>
  <Override PartName="/ppt/media/image14.wmf" ContentType="image/x-wmf"/>
  <Override PartName="/ppt/media/image58.jpeg" ContentType="image/jpeg"/>
  <Override PartName="/ppt/media/image28.jpeg" ContentType="image/jpeg"/>
  <Override PartName="/ppt/media/image27.wmf" ContentType="image/x-wmf"/>
  <Override PartName="/ppt/media/image4.wmf" ContentType="image/x-wmf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media/image72.jpeg" ContentType="image/jpeg"/>
  <Override PartName="/ppt/media/image2.png" ContentType="image/png"/>
  <Override PartName="/ppt/media/image47.wmf" ContentType="image/x-wmf"/>
  <Override PartName="/ppt/media/image1.png" ContentType="image/png"/>
  <Override PartName="/ppt/media/image52.jpeg" ContentType="image/jpeg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17.jpeg" ContentType="image/jpeg"/>
  <Override PartName="/ppt/media/image45.wmf" ContentType="image/x-wmf"/>
  <Override PartName="/ppt/media/image15.png" ContentType="image/png"/>
  <Override PartName="/ppt/media/image3.png" ContentType="image/png"/>
  <Override PartName="/ppt/media/image10.wmf" ContentType="image/x-wmf"/>
  <Override PartName="/ppt/media/image5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82B-3111-49E1-9AFA-83574DBB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9AB-ACD3-4E00-A8E7-344F1D0A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9E5-D192-449D-B071-E5C1D608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15A-93EF-4881-9EBB-FEE76AD2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519-59D1-4DA9-AE36-F5F5E72A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2F60-1A4D-4E15-90AF-6B096F4A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B744-9A03-4317-935F-AC9D450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7CC-F3CE-4E2E-94DC-8A66AC87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0F6-5C49-4D1A-9703-C4D2659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0F28-0C66-4C13-884D-75DCD37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3B6D-CB3F-4CA5-8F8F-F1FA93D4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1A-64AD-4216-8053-A47F8949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BA1C-E823-4074-87B9-6EDBF87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DE41-141C-48A9-9816-EDC1EDD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67C-66F0-4962-9358-7271FE7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4F9-B462-4295-98B1-8C67196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3BCF-A7CF-4038-967F-18C55194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55F-89CE-4C00-971D-AEAF43DE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282-CDE4-46FE-B5A9-D49F462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6CB-BD82-4997-8C04-CDF8F14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10F-62E0-4984-8A82-180E124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EC4-EE87-4F1C-92A6-B5FAF2F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CDC-71A4-4284-B433-1E55BC9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147-14C4-4643-A3B7-21C79C8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AA6A-040C-4662-B0B2-1069C118A80E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01E-E3E5-4AF5-8927-286E323BF6EA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wyorkmetro.com/news/articles/wtc/gallery/3.htm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swapmeetdave.com/Humor/Insurance/OreTruck.htm" TargetMode="External"/><Relationship Id="rId4" Type="http://schemas.openxmlformats.org/officeDocument/2006/relationships/hyperlink" Target="http://www.swapmeetdave.com/Humor/Insurance/OreTruck.htm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Common Psychological Disor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1066680"/>
            <a:ext cx="74678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Post-Traumatic Stress Disorder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ong-lasting anxiety caused by a traumatic ev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whelms a person’s sense of normal reality and ability to cope with the wor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earlydays10_20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03440" y="3733920"/>
            <a:ext cx="208296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543480" y="2652840"/>
            <a:ext cx="2057400" cy="1554120"/>
            <a:chOff x="3543480" y="2652840"/>
            <a:chExt cx="2057400" cy="1554120"/>
          </a:xfrm>
        </p:grpSpPr>
        <p:sp>
          <p:nvSpPr>
            <p:cNvPr id="344" name=""/>
            <p:cNvSpPr/>
            <p:nvPr/>
          </p:nvSpPr>
          <p:spPr>
            <a:xfrm>
              <a:off x="3543480" y="265284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3480" y="2652840"/>
              <a:ext cx="2057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deb54e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7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46" name="OreTruckT" descr="Don't mess with an ore truc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447048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347" name="viet51" descr=""/>
          <p:cNvPicPr/>
          <p:nvPr/>
        </p:nvPicPr>
        <p:blipFill>
          <a:blip r:embed="rId6"/>
          <a:stretch/>
        </p:blipFill>
        <p:spPr>
          <a:xfrm>
            <a:off x="228600" y="4552920"/>
            <a:ext cx="3048120" cy="2063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2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Additional Disor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990720"/>
            <a:ext cx="815328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Somatoform Disorders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xiety based physical ills with no apparent physical ca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Conversion Disorder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motional difficulties converted into loss of physical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Examples include deafness, partial paralysis, blindness, numbness, ghost pa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La belle indifference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erson accepts the physical loss with relative cal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6" name="854BA1BF2286AF80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7" name="1F2111E4F73AB451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BB67B9A32CC35AD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143000"/>
            <a:ext cx="5105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Hypochondria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erson in good health becomes preoccupied with imaginary ail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mainly during young adulthood, equally common to men and wom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bd10415_" descr=""/>
          <p:cNvPicPr/>
          <p:nvPr/>
        </p:nvPicPr>
        <p:blipFill>
          <a:blip r:embed="rId1"/>
          <a:stretch/>
        </p:blipFill>
        <p:spPr>
          <a:xfrm>
            <a:off x="457200" y="5052960"/>
            <a:ext cx="2286000" cy="1805040"/>
          </a:xfrm>
          <a:prstGeom prst="rect">
            <a:avLst/>
          </a:prstGeom>
          <a:ln w="0">
            <a:noFill/>
          </a:ln>
        </p:spPr>
      </p:pic>
      <p:pic>
        <p:nvPicPr>
          <p:cNvPr id="364" name="PE02716_" descr=""/>
          <p:cNvPicPr/>
          <p:nvPr/>
        </p:nvPicPr>
        <p:blipFill>
          <a:blip r:embed="rId2"/>
          <a:stretch/>
        </p:blipFill>
        <p:spPr>
          <a:xfrm>
            <a:off x="6858000" y="2895480"/>
            <a:ext cx="1820880" cy="1717920"/>
          </a:xfrm>
          <a:prstGeom prst="rect">
            <a:avLst/>
          </a:prstGeom>
          <a:ln w="0">
            <a:noFill/>
          </a:ln>
        </p:spPr>
      </p:pic>
      <p:pic>
        <p:nvPicPr>
          <p:cNvPr id="365" name="bd06855_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66" name="bd20054_" descr=""/>
          <p:cNvPicPr/>
          <p:nvPr/>
        </p:nvPicPr>
        <p:blipFill>
          <a:blip r:embed="rId4"/>
          <a:stretch/>
        </p:blipFill>
        <p:spPr>
          <a:xfrm>
            <a:off x="6934320" y="838080"/>
            <a:ext cx="1387440" cy="1946520"/>
          </a:xfrm>
          <a:prstGeom prst="rect">
            <a:avLst/>
          </a:prstGeom>
          <a:ln w="0">
            <a:noFill/>
          </a:ln>
        </p:spPr>
      </p:pic>
      <p:pic>
        <p:nvPicPr>
          <p:cNvPr id="367" name="bd20073_" descr=""/>
          <p:cNvPicPr/>
          <p:nvPr/>
        </p:nvPicPr>
        <p:blipFill>
          <a:blip r:embed="rId5"/>
          <a:stretch/>
        </p:blipFill>
        <p:spPr>
          <a:xfrm>
            <a:off x="3276720" y="4641840"/>
            <a:ext cx="3109680" cy="2216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990720"/>
            <a:ext cx="6553080" cy="56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Dissociative Disorders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volves a disturbance of a person’s conscious exper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genic Amnesia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oss of identity - possible attempt to escape life’s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genic Fugu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mnesia that is coupled with active flight to a new enviro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Multiple Personality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erson assumes two or mo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istinct and separate ident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Eve White</a:t>
            </a:r>
            <a:r>
              <a:rPr b="0" lang="en-US" sz="2800" spc="-1" strike="noStrike">
                <a:solidFill>
                  <a:srgbClr val="ff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 famous example, displayed 24 personalities; no more than 3 at a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2606760"/>
            <a:ext cx="9144000" cy="1616040"/>
            <a:chOff x="0" y="2606760"/>
            <a:chExt cx="9144000" cy="1616040"/>
          </a:xfrm>
        </p:grpSpPr>
        <p:sp>
          <p:nvSpPr>
            <p:cNvPr id="373" name=""/>
            <p:cNvSpPr/>
            <p:nvPr/>
          </p:nvSpPr>
          <p:spPr>
            <a:xfrm>
              <a:off x="0" y="260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2606760"/>
              <a:ext cx="91440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75" name="6302779782.01.MZZZZZZZ" descr=""/>
          <p:cNvPicPr/>
          <p:nvPr/>
        </p:nvPicPr>
        <p:blipFill>
          <a:blip r:embed="rId1"/>
          <a:stretch/>
        </p:blipFill>
        <p:spPr>
          <a:xfrm>
            <a:off x="7027920" y="3505320"/>
            <a:ext cx="2065320" cy="3352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0574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ovi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3 Faces of Ev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0" name="forms-of-depression" descr="Forms of Depression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447920" y="9144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fc88"/>
                </a:solidFill>
                <a:latin typeface="Times New Roman"/>
              </a:rPr>
              <a:t>Mood Disord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838080"/>
            <a:ext cx="80010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Mood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xaggerated happy or depressed moods hamper ability to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Depressive Disorder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eep sadness, anxiety, fatigue, with reduced ability to inter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Single Episode Depres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trikes deeply and seriously in one dramatic epis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Recurrent Depression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 extended or cyclical pattern of serious depr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680" y="1600200"/>
            <a:ext cx="902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56880" bIns="5688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bd10893_" descr=""/>
          <p:cNvPicPr/>
          <p:nvPr/>
        </p:nvPicPr>
        <p:blipFill>
          <a:blip r:embed="rId1"/>
          <a:stretch/>
        </p:blipFill>
        <p:spPr>
          <a:xfrm>
            <a:off x="6400800" y="4726080"/>
            <a:ext cx="2362320" cy="2131920"/>
          </a:xfrm>
          <a:prstGeom prst="rect">
            <a:avLst/>
          </a:prstGeom>
          <a:ln w="0">
            <a:noFill/>
          </a:ln>
        </p:spPr>
      </p:pic>
      <p:pic>
        <p:nvPicPr>
          <p:cNvPr id="388" name="bs01181_" descr=""/>
          <p:cNvPicPr/>
          <p:nvPr/>
        </p:nvPicPr>
        <p:blipFill>
          <a:blip r:embed="rId2"/>
          <a:stretch/>
        </p:blipFill>
        <p:spPr>
          <a:xfrm>
            <a:off x="3352680" y="4500720"/>
            <a:ext cx="2590920" cy="2357280"/>
          </a:xfrm>
          <a:prstGeom prst="rect">
            <a:avLst/>
          </a:prstGeom>
          <a:ln w="0">
            <a:noFill/>
          </a:ln>
        </p:spPr>
      </p:pic>
      <p:pic>
        <p:nvPicPr>
          <p:cNvPr id="389" name="pe01677_" descr=""/>
          <p:cNvPicPr/>
          <p:nvPr/>
        </p:nvPicPr>
        <p:blipFill>
          <a:blip r:embed="rId3"/>
          <a:stretch/>
        </p:blipFill>
        <p:spPr>
          <a:xfrm>
            <a:off x="457200" y="4649760"/>
            <a:ext cx="2743200" cy="22003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76520" y="838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b1fc88"/>
                </a:solidFill>
                <a:latin typeface="Tahoma"/>
              </a:rPr>
              <a:t>Canadian depression ra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143000"/>
            <a:ext cx="822960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Abnorm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refers to a deviance from the norm, inability to adjust, or poor mental heal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Psychological Disorder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a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“harmful dysfunction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which behavior is judged by mental health professionals to b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typical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lus behaviors below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isturb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for the time period/cultu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aladap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harmful to self/oth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unjustifi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not rational to oth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ample - Smoking is a disorder/homosexuality is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5589720"/>
            <a:ext cx="914400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w people who talk about suicide attempt it but most who attempt it have talked about it 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arning sig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Whites Vs Blacks and Men Vs women commit suic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838080"/>
            <a:ext cx="52578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Bipolar Disorde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comes excessively or inappropriately happy or depres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Manic-Type Rea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reme elation, confusion, distraction, with racing thou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8" name="j0079104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34928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j0079100" descr=""/>
          <p:cNvPicPr/>
          <p:nvPr/>
        </p:nvPicPr>
        <p:blipFill>
          <a:blip r:embed="rId2"/>
          <a:stretch/>
        </p:blipFill>
        <p:spPr>
          <a:xfrm>
            <a:off x="1125360" y="5334120"/>
            <a:ext cx="1351080" cy="1523880"/>
          </a:xfrm>
          <a:prstGeom prst="rect">
            <a:avLst/>
          </a:prstGeom>
          <a:ln w="0">
            <a:noFill/>
          </a:ln>
        </p:spPr>
      </p:pic>
      <p:pic>
        <p:nvPicPr>
          <p:cNvPr id="410" name="j0079118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1019160" cy="1567080"/>
          </a:xfrm>
          <a:prstGeom prst="rect">
            <a:avLst/>
          </a:prstGeom>
          <a:ln w="0">
            <a:noFill/>
          </a:ln>
        </p:spPr>
      </p:pic>
      <p:pic>
        <p:nvPicPr>
          <p:cNvPr id="411" name="pe01851_" descr=""/>
          <p:cNvPicPr/>
          <p:nvPr/>
        </p:nvPicPr>
        <p:blipFill>
          <a:blip r:embed="rId4"/>
          <a:stretch/>
        </p:blipFill>
        <p:spPr>
          <a:xfrm>
            <a:off x="7238880" y="762120"/>
            <a:ext cx="1317600" cy="1600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438280" y="5105520"/>
            <a:ext cx="5715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Depressive-Type Rea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come by feeling of failure, worthlessness, despai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57200" y="2895480"/>
            <a:ext cx="8381520" cy="3130560"/>
            <a:chOff x="457200" y="2895480"/>
            <a:chExt cx="8381520" cy="31305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rcRect l="0" t="0" r="0" b="18609"/>
            <a:stretch/>
          </p:blipFill>
          <p:spPr>
            <a:xfrm>
              <a:off x="457200" y="2895480"/>
              <a:ext cx="8381520" cy="27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953640" y="56887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pressed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2320" y="568872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Manic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22560" y="56887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pressed stat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57200" y="129528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T scans show that brain energy consumption rises and falls with emotional switch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(15Q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3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b54e"/>
                </a:solidFill>
                <a:latin typeface="Times New Roman"/>
              </a:rPr>
              <a:t>Schizophren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838080"/>
            <a:ext cx="685800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Schizophrenia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gnitive disorder resulting in a considerable lost contact with re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is often confused with disordered thoughts and perceptions,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like a dream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Delusion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lse beliefs maintained contrary to obvious evidence otherw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Hallucination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alse sensations in the absence of appropriate stim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1" name="ph01512j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2209680" cy="3200400"/>
          </a:xfrm>
          <a:prstGeom prst="rect">
            <a:avLst/>
          </a:prstGeom>
          <a:ln w="0">
            <a:noFill/>
          </a:ln>
        </p:spPr>
      </p:pic>
      <p:pic>
        <p:nvPicPr>
          <p:cNvPr id="432" name="ph01801j" descr=""/>
          <p:cNvPicPr/>
          <p:nvPr/>
        </p:nvPicPr>
        <p:blipFill>
          <a:blip r:embed="rId2"/>
          <a:stretch/>
        </p:blipFill>
        <p:spPr>
          <a:xfrm>
            <a:off x="0" y="441972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433" name="ph02228j" descr=""/>
          <p:cNvPicPr/>
          <p:nvPr/>
        </p:nvPicPr>
        <p:blipFill>
          <a:blip r:embed="rId3"/>
          <a:stretch/>
        </p:blipFill>
        <p:spPr>
          <a:xfrm>
            <a:off x="3200400" y="4394160"/>
            <a:ext cx="3733920" cy="2463840"/>
          </a:xfrm>
          <a:prstGeom prst="rect">
            <a:avLst/>
          </a:prstGeom>
          <a:ln w="0">
            <a:noFill/>
          </a:ln>
        </p:spPr>
      </p:pic>
      <p:pic>
        <p:nvPicPr>
          <p:cNvPr id="434" name="ph02474j" descr=""/>
          <p:cNvPicPr/>
          <p:nvPr/>
        </p:nvPicPr>
        <p:blipFill>
          <a:blip r:embed="rId4"/>
          <a:stretch/>
        </p:blipFill>
        <p:spPr>
          <a:xfrm>
            <a:off x="7236000" y="914400"/>
            <a:ext cx="196056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838080"/>
            <a:ext cx="7924680" cy="57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Schizophrenia is classified into several subtypes according to exhibit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Paranoid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delusions of grandeu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, or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feels persecuted”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people watching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Catatonic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remain “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motionless”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or long periods, unresponsive to external stimul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isorganized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coherent speech, inappropriate emotions, (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giggle, laugh, c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Undifferentiated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hallucinato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delusional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scrambled spee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Remissiv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Symptom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ave completely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g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way, but will inevitably retur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9" name="j0078703" descr=""/>
          <p:cNvPicPr/>
          <p:nvPr/>
        </p:nvPicPr>
        <p:blipFill>
          <a:blip r:embed="rId1"/>
          <a:stretch/>
        </p:blipFill>
        <p:spPr>
          <a:xfrm>
            <a:off x="57240" y="914400"/>
            <a:ext cx="795240" cy="1371600"/>
          </a:xfrm>
          <a:prstGeom prst="rect">
            <a:avLst/>
          </a:prstGeom>
          <a:ln w="0">
            <a:noFill/>
          </a:ln>
        </p:spPr>
      </p:pic>
      <p:pic>
        <p:nvPicPr>
          <p:cNvPr id="440" name="j0078739" descr=""/>
          <p:cNvPicPr/>
          <p:nvPr/>
        </p:nvPicPr>
        <p:blipFill>
          <a:blip r:embed="rId2"/>
          <a:stretch/>
        </p:blipFill>
        <p:spPr>
          <a:xfrm>
            <a:off x="0" y="2819520"/>
            <a:ext cx="76500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j0078625" descr=""/>
          <p:cNvPicPr/>
          <p:nvPr/>
        </p:nvPicPr>
        <p:blipFill>
          <a:blip r:embed="rId3"/>
          <a:stretch/>
        </p:blipFill>
        <p:spPr>
          <a:xfrm>
            <a:off x="8153280" y="2057400"/>
            <a:ext cx="7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42" name="j0078622" descr=""/>
          <p:cNvPicPr/>
          <p:nvPr/>
        </p:nvPicPr>
        <p:blipFill>
          <a:blip r:embed="rId4"/>
          <a:stretch/>
        </p:blipFill>
        <p:spPr>
          <a:xfrm>
            <a:off x="0" y="5029200"/>
            <a:ext cx="849240" cy="1828800"/>
          </a:xfrm>
          <a:prstGeom prst="rect">
            <a:avLst/>
          </a:prstGeom>
          <a:ln w="0">
            <a:noFill/>
          </a:ln>
        </p:spPr>
      </p:pic>
      <p:pic>
        <p:nvPicPr>
          <p:cNvPr id="443" name="j0078627" descr=""/>
          <p:cNvPicPr/>
          <p:nvPr/>
        </p:nvPicPr>
        <p:blipFill>
          <a:blip r:embed="rId5"/>
          <a:stretch/>
        </p:blipFill>
        <p:spPr>
          <a:xfrm>
            <a:off x="8001000" y="4419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762120"/>
            <a:ext cx="78487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zophrenia is a serious and permanent disorder normally requiring hospit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1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population develops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17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probability if mother is Schi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48%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f both parents are Schi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Indicates a strong genetic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8" name="raised_glasses" descr=""/>
          <p:cNvPicPr/>
          <p:nvPr/>
        </p:nvPicPr>
        <p:blipFill>
          <a:blip r:embed="rId1"/>
          <a:stretch/>
        </p:blipFill>
        <p:spPr>
          <a:xfrm>
            <a:off x="2666880" y="4270320"/>
            <a:ext cx="3276720" cy="2587680"/>
          </a:xfrm>
          <a:prstGeom prst="rect">
            <a:avLst/>
          </a:prstGeom>
          <a:ln w="0">
            <a:noFill/>
          </a:ln>
        </p:spPr>
      </p:pic>
      <p:pic>
        <p:nvPicPr>
          <p:cNvPr id="449" name="q8_2_200h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1641600" cy="2666880"/>
          </a:xfrm>
          <a:prstGeom prst="rect">
            <a:avLst/>
          </a:prstGeom>
          <a:ln w="0">
            <a:noFill/>
          </a:ln>
        </p:spPr>
      </p:pic>
      <p:pic>
        <p:nvPicPr>
          <p:cNvPr id="450" name="spike~and~cat" descr=""/>
          <p:cNvPicPr/>
          <p:nvPr/>
        </p:nvPicPr>
        <p:blipFill>
          <a:blip r:embed="rId3"/>
          <a:stretch/>
        </p:blipFill>
        <p:spPr>
          <a:xfrm>
            <a:off x="6719760" y="4179960"/>
            <a:ext cx="2424240" cy="2678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520" y="1022400"/>
            <a:ext cx="8153280" cy="4483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52280" y="5562720"/>
            <a:ext cx="89917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izophrenia affects about 1 in 100 people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tic predisposition/transmission found in current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295280"/>
            <a:ext cx="4724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1fc88"/>
                </a:solidFill>
                <a:latin typeface="Times New Roman"/>
              </a:rPr>
              <a:t>Dopamine Hypothes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Excess dopam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t synapses is related to diagnosis of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cult to tell if chemical imbalance is the </a:t>
            </a:r>
            <a:r>
              <a:rPr b="0" lang="en-US" sz="3200" spc="-1" strike="noStrike">
                <a:solidFill>
                  <a:srgbClr val="ff6699"/>
                </a:solidFill>
                <a:latin typeface="Times New Roman"/>
              </a:rPr>
              <a:t>ca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resul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schizophren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448240" y="1828800"/>
            <a:ext cx="3693240" cy="3988800"/>
            <a:chOff x="5448240" y="1828800"/>
            <a:chExt cx="3693240" cy="398880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5448240" y="1828800"/>
              <a:ext cx="3286080" cy="37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997960" y="5357880"/>
              <a:ext cx="3143520" cy="459720"/>
            </a:xfrm>
            <a:prstGeom prst="rect">
              <a:avLst/>
            </a:prstGeom>
            <a:solidFill>
              <a:srgbClr val="88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Dopamine Pathway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1411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1066680"/>
            <a:ext cx="73915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51411"/>
                </a:solidFill>
                <a:latin typeface="Times New Roman"/>
              </a:rPr>
              <a:t>Family Interaction Hypothesis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athogenic, unhealthy families contribute to Schizophreni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7" name="page_1_image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9847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066680" y="6172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Osbournes … Dysfunctional Family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143000"/>
            <a:ext cx="632448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Historically Perceived Ca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vements of sun or mo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il spirits/demon posse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Ancient Treat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sh/ineffective - exorcism, caged like animals, beaten, burned, castrated, mutilated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 replaced with animal’s 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e03754_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549520" cy="2743200"/>
          </a:xfrm>
          <a:prstGeom prst="rect">
            <a:avLst/>
          </a:prstGeom>
          <a:ln w="0">
            <a:noFill/>
          </a:ln>
        </p:spPr>
      </p:pic>
      <p:pic>
        <p:nvPicPr>
          <p:cNvPr id="293" name="so02227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1963800" cy="259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762120"/>
            <a:ext cx="480060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iathesis-Stress Hypothesi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enetic predisposition plus the environment causes Schiz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Nature          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   Nur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Genetic/Environment) debate over the cause of Schizophrenia contin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73" name="page_1_image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563868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5638680" y="838080"/>
            <a:ext cx="3260880" cy="3044160"/>
            <a:chOff x="5638680" y="838080"/>
            <a:chExt cx="3260880" cy="3044160"/>
          </a:xfrm>
        </p:grpSpPr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5638680" y="838080"/>
              <a:ext cx="2315880" cy="27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027480" y="3422520"/>
              <a:ext cx="2872080" cy="459720"/>
            </a:xfrm>
            <a:prstGeom prst="rect">
              <a:avLst/>
            </a:prstGeom>
            <a:solidFill>
              <a:srgbClr val="888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Excess Dopamine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 txBox="1"/>
          <p:nvPr/>
        </p:nvSpPr>
        <p:spPr>
          <a:xfrm>
            <a:off x="6858000" y="4876920"/>
            <a:ext cx="1413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+ Plus +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057400" y="213372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+ Plus +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019920" y="5257800"/>
            <a:ext cx="761760" cy="2286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3962520"/>
            <a:ext cx="152640" cy="8380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6338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sfunctional Fam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69840"/>
            <a:ext cx="5715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fc88"/>
                </a:solidFill>
                <a:latin typeface="Times New Roman"/>
              </a:rPr>
              <a:t>CP PSYCHOLOG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407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b54e"/>
                </a:solidFill>
                <a:latin typeface="Times New Roman"/>
              </a:rPr>
              <a:t>CHAPTER 15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Abnormal Behavi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Section 15Q4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54e"/>
                </a:solidFill>
                <a:latin typeface="Times New Roman"/>
              </a:rPr>
              <a:t>Personality Type Disorders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r. Freccia, NH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encoe Publis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219320"/>
            <a:ext cx="80010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Autism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fantile cognitive disorder; child does not respond normally to outside stimul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n’t respond to people; is slow to communicate; has limited interests and behavi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0" name="Maap_Sub_Page_Heading_-_Photo" descr=""/>
          <p:cNvPicPr/>
          <p:nvPr/>
        </p:nvPicPr>
        <p:blipFill>
          <a:blip r:embed="rId1"/>
          <a:stretch/>
        </p:blipFill>
        <p:spPr>
          <a:xfrm>
            <a:off x="533520" y="3863880"/>
            <a:ext cx="4190760" cy="270360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4092480" y="2932200"/>
            <a:ext cx="9144000" cy="360"/>
            <a:chOff x="4092480" y="2932200"/>
            <a:chExt cx="9144000" cy="360"/>
          </a:xfrm>
        </p:grpSpPr>
        <p:sp>
          <p:nvSpPr>
            <p:cNvPr id="492" name=""/>
            <p:cNvSpPr/>
            <p:nvPr/>
          </p:nvSpPr>
          <p:spPr>
            <a:xfrm>
              <a:off x="409248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92480" y="2932200"/>
              <a:ext cx="9144000" cy="360"/>
              <a:chOff x="4092480" y="2932200"/>
              <a:chExt cx="9144000" cy="360"/>
            </a:xfrm>
          </p:grpSpPr>
          <p:sp>
            <p:nvSpPr>
              <p:cNvPr id="494" name=""/>
              <p:cNvSpPr/>
              <p:nvPr/>
            </p:nvSpPr>
            <p:spPr>
              <a:xfrm>
                <a:off x="4092480" y="2932200"/>
                <a:ext cx="914400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2480" y="2932200"/>
                <a:ext cx="9144000" cy="3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6" name="support_02" descr="VIDEO FEEDBACK TRAINING"/>
          <p:cNvPicPr/>
          <p:nvPr/>
        </p:nvPicPr>
        <p:blipFill>
          <a:blip r:embed="rId2"/>
          <a:stretch/>
        </p:blipFill>
        <p:spPr>
          <a:xfrm>
            <a:off x="4952880" y="3875040"/>
            <a:ext cx="3733920" cy="267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280" y="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914400"/>
            <a:ext cx="83818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ersonality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ability to form meaningful relationships with other peo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Antisocial Personality Dis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(usually man) exhibits a lack of conscience for wrongdoing, even toward friends and family members (the jerk/thu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ten aggressive/ruthless/clever con art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</a:t>
            </a:r>
            <a:r>
              <a:rPr b="0" i="1" lang="en-US" sz="2800" spc="-1" strike="noStrike" u="sng">
                <a:solidFill>
                  <a:srgbClr val="151411"/>
                </a:solidFill>
                <a:uFillTx/>
                <a:latin typeface="Times New Roman"/>
              </a:rPr>
              <a:t>psychopaths/sociopat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ada89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opathic cases are rare but do ex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1" name="hannibal1" descr=""/>
          <p:cNvPicPr/>
          <p:nvPr/>
        </p:nvPicPr>
        <p:blipFill>
          <a:blip r:embed="rId1"/>
          <a:stretch/>
        </p:blipFill>
        <p:spPr>
          <a:xfrm>
            <a:off x="380880" y="5203800"/>
            <a:ext cx="2133720" cy="16542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00400" y="240048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200400" y="2400480"/>
            <a:ext cx="5268960" cy="360"/>
            <a:chOff x="3200400" y="2400480"/>
            <a:chExt cx="5268960" cy="360"/>
          </a:xfrm>
        </p:grpSpPr>
        <p:sp>
          <p:nvSpPr>
            <p:cNvPr id="504" name=""/>
            <p:cNvSpPr/>
            <p:nvPr/>
          </p:nvSpPr>
          <p:spPr>
            <a:xfrm>
              <a:off x="3200400" y="2400480"/>
              <a:ext cx="526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200400" y="2400480"/>
              <a:ext cx="3782880" cy="360"/>
              <a:chOff x="3200400" y="2400480"/>
              <a:chExt cx="3782880" cy="360"/>
            </a:xfrm>
          </p:grpSpPr>
          <p:sp>
            <p:nvSpPr>
              <p:cNvPr id="506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8" name="pg1-Ted-Bundy-headshot" descr=""/>
          <p:cNvPicPr/>
          <p:nvPr/>
        </p:nvPicPr>
        <p:blipFill>
          <a:blip r:embed="rId2"/>
          <a:stretch/>
        </p:blipFill>
        <p:spPr>
          <a:xfrm>
            <a:off x="6553080" y="5143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0048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200400" y="2400480"/>
            <a:ext cx="5268960" cy="360"/>
            <a:chOff x="3200400" y="2400480"/>
            <a:chExt cx="5268960" cy="360"/>
          </a:xfrm>
        </p:grpSpPr>
        <p:sp>
          <p:nvSpPr>
            <p:cNvPr id="511" name=""/>
            <p:cNvSpPr/>
            <p:nvPr/>
          </p:nvSpPr>
          <p:spPr>
            <a:xfrm>
              <a:off x="3200400" y="2400480"/>
              <a:ext cx="526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200400" y="2400480"/>
              <a:ext cx="3782880" cy="360"/>
              <a:chOff x="3200400" y="2400480"/>
              <a:chExt cx="3782880" cy="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200400" y="2400480"/>
                <a:ext cx="3782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5" name="dahmer3_smal" descr="Jeffery Dahmer"/>
          <p:cNvPicPr/>
          <p:nvPr/>
        </p:nvPicPr>
        <p:blipFill>
          <a:blip r:embed="rId3"/>
          <a:stretch/>
        </p:blipFill>
        <p:spPr>
          <a:xfrm>
            <a:off x="3581280" y="5181480"/>
            <a:ext cx="1660680" cy="16765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0" y="47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nnibal  Lecht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Jeffrey Daum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  Ted Bund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838080"/>
            <a:ext cx="868680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Personality Disorders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haracterized by inflexible and enduring behavior patterns that impair social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Histrionic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allow attention-getting emotions in order to gain praise/reassurance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rama quee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Narcissistic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exaggerate self-importance, may act with rage or shame to any criticism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ocky/vai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Borderline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able identity, emotion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lost sou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onality disorders are fairly common in our society, and often goes untre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3080" y="299412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5" name="6743600045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1741320" cy="2133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8" name="6777600026" descr=""/>
          <p:cNvPicPr/>
          <p:nvPr/>
        </p:nvPicPr>
        <p:blipFill>
          <a:blip r:embed="rId2"/>
          <a:stretch/>
        </p:blipFill>
        <p:spPr>
          <a:xfrm>
            <a:off x="3809880" y="4648320"/>
            <a:ext cx="1882800" cy="22096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3080" y="28796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1" name="6701200075" descr=""/>
          <p:cNvPicPr/>
          <p:nvPr/>
        </p:nvPicPr>
        <p:blipFill>
          <a:blip r:embed="rId3"/>
          <a:stretch/>
        </p:blipFill>
        <p:spPr>
          <a:xfrm>
            <a:off x="6527880" y="4495680"/>
            <a:ext cx="208260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129528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b1fc88"/>
                </a:solidFill>
                <a:uFillTx/>
                <a:latin typeface="Times New Roman"/>
              </a:rPr>
              <a:t>Drug Addiction: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Disorder causing physical, social, and psychological dysfun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6" name="1" descr=""/>
          <p:cNvPicPr/>
          <p:nvPr/>
        </p:nvPicPr>
        <p:blipFill>
          <a:blip r:embed="rId1"/>
          <a:stretch/>
        </p:blipFill>
        <p:spPr>
          <a:xfrm>
            <a:off x="2057400" y="3171960"/>
            <a:ext cx="5562720" cy="368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120" y="914400"/>
            <a:ext cx="44956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sychological Dependenc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mentally rely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rtifici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nse of well-be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becomes restless, irritable, and uneasy when deprived of the dru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1" name="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039840" cy="4572000"/>
          </a:xfrm>
          <a:prstGeom prst="rect">
            <a:avLst/>
          </a:prstGeom>
          <a:ln w="0">
            <a:noFill/>
          </a:ln>
        </p:spPr>
      </p:pic>
      <p:pic>
        <p:nvPicPr>
          <p:cNvPr id="542" name="hm00170_" descr=""/>
          <p:cNvPicPr/>
          <p:nvPr/>
        </p:nvPicPr>
        <p:blipFill>
          <a:blip r:embed="rId2"/>
          <a:stretch/>
        </p:blipFill>
        <p:spPr>
          <a:xfrm>
            <a:off x="1447920" y="3675240"/>
            <a:ext cx="3200400" cy="3108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1219320"/>
            <a:ext cx="7620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Addict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e drug induced state becomes the body’s “normal” st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thout the drug the person experiences extreme physical discomfort/ill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7" name="X003040020040527e05r00004_p" descr="A Chinese former drug addict &#10;demonstrates how to use a needle for the &#10;proper injection of drugs during an HIV &#10;prevention workshop at the Yunnan Daytop &#10;Centre, China's first therapeutic &#10;community drug rehabilitation centre, in &#10;Kunming in this May 21, 2004 file photo. &#10;World Aids Day is on December 1, 2004. &#10;REUTERS/Andrew Wong &#10;PP04100075"/>
          <p:cNvPicPr/>
          <p:nvPr/>
        </p:nvPicPr>
        <p:blipFill>
          <a:blip r:embed="rId1"/>
          <a:stretch/>
        </p:blipFill>
        <p:spPr>
          <a:xfrm>
            <a:off x="5562720" y="4419720"/>
            <a:ext cx="3352680" cy="2211120"/>
          </a:xfrm>
          <a:prstGeom prst="rect">
            <a:avLst/>
          </a:prstGeom>
          <a:ln w="0">
            <a:noFill/>
          </a:ln>
        </p:spPr>
      </p:pic>
      <p:pic>
        <p:nvPicPr>
          <p:cNvPr id="548" name="X900220020040704e07400002_p" descr="An AIDS patient holds his morning dose &#10;of medication at the AIDS hospice in the &#10;Wat Phrabaht Nampu temple in Thailand's &#10;Lop Buri province, about 160 km (100 &#10;miles) north of Bangkok, in this July 3, &#10;2004 file photo. World Aids Day is on &#10;December 1, 2004. REUTERS/Adrees Latif   &#10;PP04100075"/>
          <p:cNvPicPr/>
          <p:nvPr/>
        </p:nvPicPr>
        <p:blipFill>
          <a:blip r:embed="rId2"/>
          <a:stretch/>
        </p:blipFill>
        <p:spPr>
          <a:xfrm>
            <a:off x="228600" y="4267080"/>
            <a:ext cx="3200400" cy="2335320"/>
          </a:xfrm>
          <a:prstGeom prst="rect">
            <a:avLst/>
          </a:prstGeom>
          <a:ln w="0">
            <a:noFill/>
          </a:ln>
        </p:spPr>
      </p:pic>
      <p:pic>
        <p:nvPicPr>
          <p:cNvPr id="549" name="bd05201_" descr=""/>
          <p:cNvPicPr/>
          <p:nvPr/>
        </p:nvPicPr>
        <p:blipFill>
          <a:blip r:embed="rId3"/>
          <a:stretch/>
        </p:blipFill>
        <p:spPr>
          <a:xfrm>
            <a:off x="3429000" y="4419720"/>
            <a:ext cx="2075040" cy="213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9907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Toleranc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ody adapts to the drug so that increased dosages are required for a “hig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4" name="BD04972_" descr=""/>
          <p:cNvPicPr/>
          <p:nvPr/>
        </p:nvPicPr>
        <p:blipFill>
          <a:blip r:embed="rId1"/>
          <a:stretch/>
        </p:blipFill>
        <p:spPr>
          <a:xfrm>
            <a:off x="5257800" y="993600"/>
            <a:ext cx="3124080" cy="2341800"/>
          </a:xfrm>
          <a:prstGeom prst="rect">
            <a:avLst/>
          </a:prstGeom>
          <a:ln w="0">
            <a:noFill/>
          </a:ln>
        </p:spPr>
      </p:pic>
      <p:pic>
        <p:nvPicPr>
          <p:cNvPr id="555" name="bd20124_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4068720" cy="25938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648320" y="419112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Withdrawal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hysical and psychological upset as body revolts against the lack of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838080"/>
            <a:ext cx="830592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Alcoholism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e country’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most serious drug addiction problem.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no 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duces psychological and physical dependence, tolerance and add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Delirium Tremens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olent withdrawal symptoms associated with alcohol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Alcoholics Anonymous (AA)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rganization that helps alcoholics to reco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1" name="P1010119" descr=""/>
          <p:cNvPicPr/>
          <p:nvPr/>
        </p:nvPicPr>
        <p:blipFill>
          <a:blip r:embed="rId1"/>
          <a:stretch/>
        </p:blipFill>
        <p:spPr>
          <a:xfrm>
            <a:off x="2666880" y="4648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62" name="P1010120" descr=""/>
          <p:cNvPicPr/>
          <p:nvPr/>
        </p:nvPicPr>
        <p:blipFill>
          <a:blip r:embed="rId2"/>
          <a:stretch/>
        </p:blipFill>
        <p:spPr>
          <a:xfrm>
            <a:off x="5524560" y="4257720"/>
            <a:ext cx="3467160" cy="2600280"/>
          </a:xfrm>
          <a:prstGeom prst="rect">
            <a:avLst/>
          </a:prstGeom>
          <a:ln w="0">
            <a:noFill/>
          </a:ln>
        </p:spPr>
      </p:pic>
      <p:pic>
        <p:nvPicPr>
          <p:cNvPr id="563" name="AIP-Crew-Pic" descr=""/>
          <p:cNvPicPr/>
          <p:nvPr/>
        </p:nvPicPr>
        <p:blipFill>
          <a:blip r:embed="rId3"/>
          <a:stretch/>
        </p:blipFill>
        <p:spPr>
          <a:xfrm>
            <a:off x="0" y="4579920"/>
            <a:ext cx="2362320" cy="2052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876920" cy="4006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2556000" cy="3124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8600" y="5562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mission fees were charged to observe  mentally ill at St. Mary’s hospital (1700’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8769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tal patients were restrained as a humane way to regain sensi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0880" y="1066680"/>
            <a:ext cx="8001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fc88"/>
                </a:solidFill>
                <a:latin typeface="Times New Roman"/>
              </a:rPr>
              <a:t>DSM IV: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s five dimensions (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xes I-V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to describe a person’s mental functioning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`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Classification Catego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velopmental aspects of disor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II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hysical Dysfunction/medical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IV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Current functioning leve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411"/>
                </a:solidFill>
                <a:latin typeface="Times New Roman"/>
              </a:rPr>
              <a:t>Axis V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Level of adaptation (Social, Occupational, Leisu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0" name="bd00072_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1903320" cy="1905120"/>
          </a:xfrm>
          <a:prstGeom prst="rect">
            <a:avLst/>
          </a:prstGeom>
          <a:ln w="0">
            <a:noFill/>
          </a:ln>
        </p:spPr>
      </p:pic>
      <p:pic>
        <p:nvPicPr>
          <p:cNvPr id="571" name="bd07126_" descr=""/>
          <p:cNvPicPr/>
          <p:nvPr/>
        </p:nvPicPr>
        <p:blipFill>
          <a:blip r:embed="rId2"/>
          <a:stretch/>
        </p:blipFill>
        <p:spPr>
          <a:xfrm>
            <a:off x="7010280" y="2057400"/>
            <a:ext cx="1879560" cy="1674720"/>
          </a:xfrm>
          <a:prstGeom prst="rect">
            <a:avLst/>
          </a:prstGeom>
          <a:ln w="0">
            <a:noFill/>
          </a:ln>
        </p:spPr>
      </p:pic>
      <p:pic>
        <p:nvPicPr>
          <p:cNvPr id="572" name="bd07117_" descr=""/>
          <p:cNvPicPr/>
          <p:nvPr/>
        </p:nvPicPr>
        <p:blipFill>
          <a:blip r:embed="rId3"/>
          <a:stretch/>
        </p:blipFill>
        <p:spPr>
          <a:xfrm>
            <a:off x="304920" y="4530600"/>
            <a:ext cx="2819160" cy="1781280"/>
          </a:xfrm>
          <a:prstGeom prst="rect">
            <a:avLst/>
          </a:prstGeom>
          <a:ln w="0">
            <a:noFill/>
          </a:ln>
        </p:spPr>
      </p:pic>
      <p:pic>
        <p:nvPicPr>
          <p:cNvPr id="573" name="bd07156_" descr=""/>
          <p:cNvPicPr/>
          <p:nvPr/>
        </p:nvPicPr>
        <p:blipFill>
          <a:blip r:embed="rId4"/>
          <a:stretch/>
        </p:blipFill>
        <p:spPr>
          <a:xfrm>
            <a:off x="6934320" y="4543560"/>
            <a:ext cx="2209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914400"/>
            <a:ext cx="723888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or to 1980 disorders were classified as either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“neurosis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151411"/>
                </a:solidFill>
                <a:latin typeface="Times New Roman"/>
              </a:rPr>
              <a:t>“psychosis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Neurotic Disor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term seldom used tod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ually distressing but person thinks rationally and functions soci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debilitating than a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“psychosi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Psychotic Dis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loses contact with re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erience irrational ideas and distorted percep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ada8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to living out a daydream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bd06787_" descr=""/>
          <p:cNvPicPr/>
          <p:nvPr/>
        </p:nvPicPr>
        <p:blipFill>
          <a:blip r:embed="rId1"/>
          <a:stretch/>
        </p:blipFill>
        <p:spPr>
          <a:xfrm>
            <a:off x="6248520" y="2928960"/>
            <a:ext cx="2895480" cy="2300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219320"/>
            <a:ext cx="571500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fc88"/>
                </a:solidFill>
                <a:latin typeface="Times New Roman"/>
              </a:rPr>
              <a:t>DSM-IV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merican Psychiatric Association’s </a:t>
            </a:r>
            <a:r>
              <a:rPr b="0" i="1" lang="en-US" sz="2800" spc="-1" strike="noStrike">
                <a:solidFill>
                  <a:srgbClr val="b1fc88"/>
                </a:solidFill>
                <a:latin typeface="Times New Roman"/>
              </a:rPr>
              <a:t>Diagnostic and Statistical Manual of Mental Disord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4th Edi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ystem for classifying   psychological disor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cribes but does not explain the cause of psychological disor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itics argue these labels are too arbitrary and mis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ada89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els may cause more harm than good for the individ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bd04882_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741760" cy="2971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990720"/>
            <a:ext cx="86868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Anxiety Based Disord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an cause excessive worrying, mood swings, and f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Generalized Anxiety</a:t>
            </a: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eneralized apprehension or feeling that one is in da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 symptoms include muscle tension, inability to relax, indigestion, diarrh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hobia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ear of an object or situation that is out of proportion to the actual dan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5141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Acro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Heights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(Nycto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Darkness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1514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(Social Phobia/</a:t>
            </a:r>
            <a:r>
              <a:rPr b="1" lang="en-US" sz="2800" spc="-1" strike="noStrike">
                <a:solidFill>
                  <a:srgbClr val="151411"/>
                </a:solidFill>
                <a:latin typeface="Times New Roman"/>
              </a:rPr>
              <a:t>Embarrassment</a:t>
            </a:r>
            <a:r>
              <a:rPr b="0" i="1" lang="en-US" sz="2800" spc="-1" strike="noStrike">
                <a:solidFill>
                  <a:srgbClr val="15141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fc88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b1fc88"/>
                </a:solidFill>
                <a:uFillTx/>
                <a:latin typeface="Times New Roman"/>
              </a:rPr>
              <a:t>Panic Disorder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dden unexplainable attacks of intense fear and impending do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an02068_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138564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an02332_" descr=""/>
          <p:cNvPicPr/>
          <p:nvPr/>
        </p:nvPicPr>
        <p:blipFill>
          <a:blip r:embed="rId2"/>
          <a:stretch/>
        </p:blipFill>
        <p:spPr>
          <a:xfrm>
            <a:off x="7391520" y="4149720"/>
            <a:ext cx="1447560" cy="132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898560"/>
            <a:ext cx="8686800" cy="5219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86000" y="2438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0"/>
            <a:ext cx="8763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3716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838080"/>
            <a:ext cx="7467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b1fc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fc88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Obsessive-Compulsive Disorder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uses unwanted anxiety driven thoughts/ac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Obsess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ncontrollable, repetitive pattern of thoughts caused by 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b1fc88"/>
                </a:solidFill>
                <a:uFillTx/>
                <a:latin typeface="Times New Roman"/>
              </a:rPr>
              <a:t>Compuls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rrational actions that are repeatedly performed to reduce anxie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bd06785_" descr=""/>
          <p:cNvPicPr/>
          <p:nvPr/>
        </p:nvPicPr>
        <p:blipFill>
          <a:blip r:embed="rId1"/>
          <a:stretch/>
        </p:blipFill>
        <p:spPr>
          <a:xfrm>
            <a:off x="6748560" y="4038480"/>
            <a:ext cx="2030400" cy="2362320"/>
          </a:xfrm>
          <a:prstGeom prst="rect">
            <a:avLst/>
          </a:prstGeom>
          <a:ln w="0">
            <a:noFill/>
          </a:ln>
        </p:spPr>
      </p:pic>
      <p:pic>
        <p:nvPicPr>
          <p:cNvPr id="328" name="bs01194_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bd10870_" descr=""/>
          <p:cNvPicPr/>
          <p:nvPr/>
        </p:nvPicPr>
        <p:blipFill>
          <a:blip r:embed="rId3"/>
          <a:stretch/>
        </p:blipFill>
        <p:spPr>
          <a:xfrm>
            <a:off x="3581280" y="4460760"/>
            <a:ext cx="2514600" cy="1949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743200" y="5562720"/>
            <a:ext cx="7621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486400"/>
            <a:ext cx="60984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1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fc88"/>
                </a:solidFill>
                <a:latin typeface="Times New Roman"/>
              </a:rPr>
              <a:t>Abnormal Psychology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15Q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9:48:30Z</dcterms:created>
  <dc:creator>Martel</dc:creator>
  <dc:description/>
  <dc:language>en-US</dc:language>
  <cp:lastModifiedBy>Authorized User</cp:lastModifiedBy>
  <cp:lastPrinted>2003-05-10T02:49:33Z</cp:lastPrinted>
  <dcterms:modified xsi:type="dcterms:W3CDTF">2007-05-14T11:12:09Z</dcterms:modified>
  <cp:revision>295</cp:revision>
  <dc:subject/>
  <dc:title>No Slide Title</dc:title>
</cp:coreProperties>
</file>